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D2E-1DC2-4CDE-AAF0-5CCBB8F9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C03-4CF1-49FC-AB75-EB71CD87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EA8-7847-49F3-ACDF-4FF32562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083-BE5A-4EAB-80FA-E5CB276D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4DB7-0E7E-44D8-9C53-A3047695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98B8-BE0D-492C-94B6-BECEBA88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BED3-BD94-4EEA-B3A3-1FAF4017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AED5-7EFB-42E2-9203-A9F4549D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B739-D81E-4C8F-AC2D-39726212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C876-814A-45DE-A0FC-E5839C71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BD8A-CF79-4EE5-B9B1-569B9487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C1D-6A00-415B-8F8C-34530A4D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58CC-B9C7-444D-977F-424B2030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C8EB-14FF-4D15-8DA8-7C7A2A4D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47A4-073A-47A5-B7D7-AC50A626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FC70-C903-4702-87C0-AF7E5702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7D5F-53C0-4A6E-B2AD-3FE2B25C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8C2-9FE4-41F3-A042-2D7FDEC7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566-75B9-4A70-BB35-47CF6D4E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1EF-AAAC-4E60-8781-0F3150AF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E8A-18F1-4F52-AFEE-3C8D9E8F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68E-DB6E-479D-890C-DDA7941A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7E7-98FF-4CAD-9A20-35B87308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EDE-CCAC-4E60-A7A2-8DA2C148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D470-B37F-486E-8C25-F4B89A4D7E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904C-E335-4ECB-A5D2-4E196A8D5F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itle of Nove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does this story take plac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are the main character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be their physical and personal characteristics. At least three ea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ory Summar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efly describe the main events or problems in thi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lf to Self Conne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can connect to ____________ because ____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helps me better understand                          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xt to Text Conne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_______ happens in this story it reminds of when ______ happened in another story called 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helps me understand 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I read this story I wonde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le I was reading this story I wonde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ter reading this story I won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ter to the Auth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 to Word and write a letter to the auth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them at least one question about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them a question about themsel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them what you liked or disliked about their boo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them anything else you have in mi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1:27:19Z</dcterms:created>
  <dc:creator>Denise</dc:creator>
  <dc:description/>
  <dc:language>en-US</dc:language>
  <cp:lastModifiedBy>Denise</cp:lastModifiedBy>
  <dcterms:modified xsi:type="dcterms:W3CDTF">2007-03-26T12:00:05Z</dcterms:modified>
  <cp:revision>2</cp:revision>
  <dc:subject/>
  <dc:title>Title of Novel</dc:title>
</cp:coreProperties>
</file>